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74A5-E980-478A-A1E8-0249A678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A12D5-4D5A-4C09-8DD2-C31B8FFC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87CF-AE3E-49F0-9EA8-3FFEBEFF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AF67-067D-4BD5-8A33-38C5760E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32DC-FFA5-4BF9-BE8A-BC7ECA0D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6C81-DB96-4E67-951F-568950ED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C503-2FA7-4FA5-81B1-99DC3FF9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2230-A2D2-48DB-81E7-940174BA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A030-6311-426E-99A8-778DFE32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0F56-BCF4-403D-A496-1C2F9798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70C1-8783-4DF3-BDA1-A80E284A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D491-D3BF-48F0-A8FC-155ACA24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5286-AFD2-4401-9FBD-504807D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E4AC-80A2-4133-AFBA-15FF3B59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9924-9D36-400E-A721-BA6975B7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CE02-6C74-468C-BF5B-BA7DC512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6B61-385D-484C-9923-52BA2D34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FEC4-3E6C-4A44-93C7-D0C27DBA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BA53-9393-444D-9C63-1AC6AD84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1C32-FC55-475E-8DB9-11FFFE76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D1C5-9371-44DD-8356-1A5AE57D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98CD-D83F-4A71-B53D-DAD6BFE5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70CF-6BA6-468D-97A6-27B2D027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0556E-CF1E-4BC5-AD4D-825A2F03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0D3D-3496-4C0C-9D25-AC7FD1A524F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9D55-72D8-4462-8247-FC6A5217BC4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880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Знаеш ли колко звездичк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яскат в тъмннй свод далеч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колко облаци мъничк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репти слънчевият лъч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и облаци, звездичк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о Бог брои ги всичк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и облаци, звезд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о Бог брои ги в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неска колко ли мухички прехвъркват из въздуха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лко ли са тез рибичк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в води отплуваха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ги знае до едничк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приготвя им храничк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ги знае до ед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приготвя им хран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28224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Знаеш ли колко дечиц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ън люлее нощен цар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утрин милинки личиц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целуне слънчев лъч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ги знае до едничко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ижи се и бди за всичко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ги знае до едн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ди над тях най-предано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06:38Z</dcterms:modified>
  <cp:revision>201</cp:revision>
  <dc:subject/>
  <dc:title>Slide 1</dc:title>
</cp:coreProperties>
</file>